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4.png" ContentType="image/png"/>
  <Override PartName="/ppt/media/image1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257120" y="720720"/>
            <a:ext cx="479556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4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4144680" y="9120240"/>
            <a:ext cx="3165480" cy="474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DFA04-A265-4E3B-99EC-9AB2D6ECC44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9B2D0-4E38-41A6-9C3F-ED8745EA8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1CF2E-151F-4ADB-8C36-5DDA514C87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51CC0-42FF-447A-B858-242CE4911A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02910-CE35-455E-A3F3-EA3FA6C559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62587-63E4-4E94-9E82-FE3C897ABC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A01F4-C9FC-400F-A761-35C45A31D9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CE14B-7A93-482B-AFC5-FA4E9BEF87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22CE1-768B-4333-85FA-C24524103E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D79F0-74A9-4FC4-9F43-E552B6FBB7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EF593-ABA3-4C22-B8B4-3A940EB810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D6C24-3A68-4195-96B5-621A43A6DB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D1BEB-F6F8-4385-8172-3D8982A884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892FE-16D2-4BC5-9A51-D80B03D53E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E6700-61C8-4147-91A1-41F1D33FB5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A1F43-985E-4E67-84E9-14C9562143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DF835-EF6F-4920-99AC-EC30973FBE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D2325-AB5F-4C07-A894-AA1430E17A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977BD-7E8F-4E6B-ADF9-0F0EE46137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0B5E1-E30B-4886-A2D3-2C9EA59E47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2D41C-06DE-4E41-8C58-31BAF5791C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4C09A-8964-4F33-9041-507ACEAD40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89D0F-8F50-4677-8D85-4F6E96017A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25450-F3DF-4A07-848D-2A0749D81F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80F95-E33A-4F0E-B28D-504E1B6BC7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E357F-C164-4AE9-A033-D58A3FF463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9031E-D215-4330-B422-C464C79F38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87142-4B73-433A-9A37-D206508208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75214-7623-4026-BA8A-9AC36132B0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B73DB-FBD9-4E04-AF69-2D7F64C28C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F2A6-DA70-440B-BEE7-5B489C2DF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BC0B-B5B6-4EEF-AEDD-3888C004A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2568-E029-44CE-AC77-D2C52C68D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AFA83-5129-4D33-8A2F-C3A07CAEF5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91E5F-3A2B-4800-AE58-2439A4A2DD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A7D9-1AF2-47C1-B62C-8468B2EA6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E4C0-ACD4-4608-9CCF-DF0D26F0D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BDF9-CAD9-4FC6-AECA-FE84FDB98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77677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2B24-171E-44E6-93FB-5ED69E116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21BB-9285-44E4-B4E1-06ACD1DB9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1C8C-C0ED-4878-A15E-2FAC724FC8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0E87B-6944-491D-AD1D-A552557BC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800" indent="-278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45A5B-6D47-4758-BD7F-AB22CAADC5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ie.org/" TargetMode="External"/><Relationship Id="rId3" Type="http://schemas.openxmlformats.org/officeDocument/2006/relationships/hyperlink" Target="http://www.pbl-online.org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ie.org/" TargetMode="External"/><Relationship Id="rId3" Type="http://schemas.openxmlformats.org/officeDocument/2006/relationships/hyperlink" Target="http://www.pbl-online.org/" TargetMode="External"/><Relationship Id="rId4" Type="http://schemas.openxmlformats.org/officeDocument/2006/relationships/hyperlink" Target="http://collaboratory.nunet.net/cwebdocs/index.html" TargetMode="External"/><Relationship Id="rId5" Type="http://schemas.openxmlformats.org/officeDocument/2006/relationships/hyperlink" Target="http://collaboratory.nunet.net/cwebdocs/index.html" TargetMode="External"/><Relationship Id="rId6" Type="http://schemas.openxmlformats.org/officeDocument/2006/relationships/hyperlink" Target="http://www.imsa.edu/" TargetMode="External"/><Relationship Id="rId7" Type="http://schemas.openxmlformats.org/officeDocument/2006/relationships/hyperlink" Target="http://www.glef.org/" TargetMode="External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vde.state.wv.us/teach21/" TargetMode="External"/><Relationship Id="rId3" Type="http://schemas.openxmlformats.org/officeDocument/2006/relationships/hyperlink" Target="http://projects.hightechhigh.org/" TargetMode="External"/><Relationship Id="rId4" Type="http://schemas.openxmlformats.org/officeDocument/2006/relationships/hyperlink" Target="http://projects.hightechhigh.org/" TargetMode="External"/><Relationship Id="rId5" Type="http://schemas.openxmlformats.org/officeDocument/2006/relationships/hyperlink" Target="http://projects.hightechhigh.org/" TargetMode="External"/><Relationship Id="rId6" Type="http://schemas.openxmlformats.org/officeDocument/2006/relationships/hyperlink" Target="http://www.pbl-online.org/" TargetMode="External"/><Relationship Id="rId7" Type="http://schemas.openxmlformats.org/officeDocument/2006/relationships/hyperlink" Target="http://www.pbl-online.org/" TargetMode="External"/><Relationship Id="rId8" Type="http://schemas.openxmlformats.org/officeDocument/2006/relationships/hyperlink" Target="http://pathways.ohiorc.org/" TargetMode="External"/><Relationship Id="rId9" Type="http://schemas.openxmlformats.org/officeDocument/2006/relationships/hyperlink" Target="http://pathways.ohiorc.org/" TargetMode="External"/><Relationship Id="rId10" Type="http://schemas.openxmlformats.org/officeDocument/2006/relationships/hyperlink" Target="http://pathways.ohiorc.org/" TargetMode="External"/><Relationship Id="rId11" Type="http://schemas.openxmlformats.org/officeDocument/2006/relationships/hyperlink" Target="http://www.envisionprojects.org/cs/envision/print/docs/750" TargetMode="External"/><Relationship Id="rId12" Type="http://schemas.openxmlformats.org/officeDocument/2006/relationships/hyperlink" Target="http://www.wested.org/pblnet/exemplary_projects.html" TargetMode="External"/><Relationship Id="rId13" Type="http://schemas.openxmlformats.org/officeDocument/2006/relationships/hyperlink" Target="http://www.wested.org/pblnet/exemplary_projects.html" TargetMode="External"/><Relationship Id="rId14" Type="http://schemas.openxmlformats.org/officeDocument/2006/relationships/hyperlink" Target="http://virtualschoolhouse.visionlink.org/projects.htm" TargetMode="External"/><Relationship Id="rId15" Type="http://schemas.openxmlformats.org/officeDocument/2006/relationships/hyperlink" Target="http://virtualschoolhouse.visionlink.org/projects.htm" TargetMode="External"/><Relationship Id="rId16" Type="http://schemas.openxmlformats.org/officeDocument/2006/relationships/image" Target="../media/image38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4.jpeg"/><Relationship Id="rId6" Type="http://schemas.openxmlformats.org/officeDocument/2006/relationships/hyperlink" Target="http://images.google.com/imgres?imgurl=http://faculty-staff.ou.edu/D/David.S.Durica-1/graduate.JPG&amp;imgrefurl=http://faculty-staff.ou.edu/D/David.S.Durica-1/&amp;usg=__Ypj36ZE0HV-ZWAdSuE2uhhkX0u0=&amp;h=600&amp;w=428&amp;sz=13&amp;hl=en&amp;start=3&amp;um=1&amp;tbnid=0KKq3ER-tziIOM:&amp;tbnh=135&amp;tbnw=96&amp;prev=/images%3Fq%3DGraduate%26um%3D1%26hl%3Den%26rls%3DDGUS,DGUS:2006-22,DGUS:en%26sa%3DN" TargetMode="External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38088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pperplate Gothic Bold"/>
              </a:rPr>
              <a:t>PBL</a:t>
            </a:r>
            <a:r>
              <a:rPr b="0" lang="en-US" sz="48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502920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pperplate Gothic Bold"/>
              </a:rPr>
              <a:t>for the 2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pperplate Gothic Bold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pperplate Gothic Bold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58000" y="6858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380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…                              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orm scenes f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acBe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m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ages of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 represent ma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rac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2209680"/>
            <a:ext cx="38098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lore universal themes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Beth by writing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forming key scenes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ern English, in moder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tt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2438280"/>
            <a:ext cx="76320" cy="1981440"/>
          </a:xfrm>
          <a:prstGeom prst="rect">
            <a:avLst/>
          </a:prstGeom>
          <a:solidFill>
            <a:srgbClr val="9918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From activities &amp; “doing projects” to P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0" y="837720"/>
            <a:ext cx="754380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858000" y="6858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066680" y="1523880"/>
            <a:ext cx="6705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…                              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sten to differ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unds. Make a grap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entify feature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on sounds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e disturbing to the 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y five s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lution problems i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ty. Form tas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ces to study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ommend solu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2286000"/>
            <a:ext cx="76320" cy="2286000"/>
          </a:xfrm>
          <a:prstGeom prst="rect">
            <a:avLst/>
          </a:prstGeom>
          <a:solidFill>
            <a:srgbClr val="9918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From activities &amp; “doing projects” to P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0" y="837720"/>
            <a:ext cx="74674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58000" y="6858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066680" y="1828800"/>
            <a:ext cx="6705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…                              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 a research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 a Renaissance artis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d a model of a 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 a da Vinci drawi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create a TV n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deo about a ma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ent of the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286000"/>
            <a:ext cx="3809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udy various develop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ring the time period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and present 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swer to the question, “W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naissance a rebirth or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ole new baby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2590920"/>
            <a:ext cx="76320" cy="2286000"/>
          </a:xfrm>
          <a:prstGeom prst="rect">
            <a:avLst/>
          </a:prstGeom>
          <a:solidFill>
            <a:srgbClr val="9918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From activities &amp; “doing projects” to P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0" y="837720"/>
            <a:ext cx="74674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6858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90720" y="1882800"/>
            <a:ext cx="6705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…                            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23623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y various card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ce games to deter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odds of win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2362320"/>
            <a:ext cx="38862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an a “Probability Booth”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nnual PTA fundrais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rnival, with activities who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dds of winning would attra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ts of playe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termine how much mone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would cost to play, h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ch winners receive,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much profit you exp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2819520"/>
            <a:ext cx="76320" cy="2666880"/>
          </a:xfrm>
          <a:prstGeom prst="rect">
            <a:avLst/>
          </a:prstGeom>
          <a:solidFill>
            <a:srgbClr val="9918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From activities &amp; “doing projects” to P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0" y="837720"/>
            <a:ext cx="74674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868480" y="2860560"/>
            <a:ext cx="540720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06440" indent="-304920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  <a:ea typeface="MS Gothic"/>
              </a:rPr>
              <a:t>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3808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The tradecraft of te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4600" y="1028880"/>
            <a:ext cx="5405400" cy="22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06440" indent="-304920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erlin Sans FB Demi"/>
                <a:ea typeface="MS Gothic"/>
              </a:rPr>
              <a:t>evolu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51040" y="3908520"/>
            <a:ext cx="5407200" cy="22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06440" indent="-304920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erlin Sans FB Demi"/>
                <a:ea typeface="MS Gothic"/>
              </a:rPr>
              <a:t>revolu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38080"/>
            <a:ext cx="51814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 fill="hold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3808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Essential elements of P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838080"/>
            <a:ext cx="49528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066680"/>
            <a:ext cx="746748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38360" indent="-281160">
              <a:lnSpc>
                <a:spcPct val="100000"/>
              </a:lnSpc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S Gothic"/>
              </a:rPr>
              <a:t>A project, in PB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Gothic"/>
              </a:rPr>
              <a:t>is organized around an open-ended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MS Gothi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Gothic"/>
              </a:rPr>
              <a:t>Driving Question, problem, or challe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Gothic"/>
              </a:rPr>
              <a:t>creates a need to know essential content &amp;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Gothic"/>
              </a:rPr>
              <a:t>requires inquiry to learn and/or create something 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Gothic"/>
              </a:rPr>
              <a:t>results in a publicly presented product or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Gothic"/>
              </a:rPr>
              <a:t>allows student voice &amp; cho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Gothic"/>
              </a:rPr>
              <a:t>requires critical thinking, problem solving, collaboration and various forms of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477120" y="380880"/>
            <a:ext cx="2247840" cy="2057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380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yeah, but 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0" y="837720"/>
            <a:ext cx="24382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1066680"/>
            <a:ext cx="5486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’s not standards-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can’t cover enough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y students aren’t re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can’t use traditional teaching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’s loud and mes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’s no individual accoun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don’t have tim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638680" y="228600"/>
            <a:ext cx="3200400" cy="2000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828800" y="7621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2280" y="30492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Designing &amp; implementing a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762120"/>
            <a:ext cx="556272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9718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ning &amp; Prep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257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35053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flect &amp;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13716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tting St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828800" y="7621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2280" y="30492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Designing &amp; implementing a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762120"/>
            <a:ext cx="541008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29718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nning &amp; Prep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91120" y="52578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5053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flect &amp; Per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137160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tting Sta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914400"/>
            <a:ext cx="3124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velop an id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cify 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ide on the 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rite a Driving Qu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 flipH="1" rot="10800000">
            <a:off x="606600" y="1224000"/>
            <a:ext cx="2133360" cy="99072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6095880" y="4728960"/>
            <a:ext cx="1905120" cy="99036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6095880" y="1147320"/>
            <a:ext cx="1905120" cy="9907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thways to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0" y="837720"/>
            <a:ext cx="327672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1295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entury Skill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77120" y="48769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file cabi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1371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l-world pract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6095880" y="2290680"/>
            <a:ext cx="1905120" cy="9907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2590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6095880" y="3510000"/>
            <a:ext cx="1905120" cy="99072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rot="10800000">
            <a:off x="533520" y="2367000"/>
            <a:ext cx="2209680" cy="9907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rot="10800000">
            <a:off x="533520" y="3509640"/>
            <a:ext cx="2209680" cy="10666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rot="10800000">
            <a:off x="533520" y="4728960"/>
            <a:ext cx="2209680" cy="99036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2666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y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77120" y="3657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iculum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3733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issues &amp;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5029200"/>
            <a:ext cx="19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 inter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743200" y="2057400"/>
            <a:ext cx="3333600" cy="33242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114800" y="2438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2133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Entry 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2286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380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BIE: Who W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62120"/>
            <a:ext cx="320040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1066680"/>
            <a:ext cx="662940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E is dedicated to improving 21st Century teaching and learning by creating and disseminating knowledge, products, and practices for effective Project Based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profit located near San Fran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shops and partners in over 30 states and 6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bi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pbl-onlin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BL Handboo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BL Toolki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eries, and project based curriculum units for high school Economics and U.S.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8252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ing an idea: what will students do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 a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 a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 a web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sh a magaz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d a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581280" y="1599840"/>
            <a:ext cx="41148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ommend a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duct a campa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e a 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nt a 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bate an 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ke a multimedia present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** See PBL Handbook, p. 58-59 or PBL Starter Kit, p. 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838080"/>
            <a:ext cx="65530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553080" y="914400"/>
            <a:ext cx="245592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114800" y="1371600"/>
            <a:ext cx="4572000" cy="34322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28600" y="3808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Specifying learning targets and C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0" y="837720"/>
            <a:ext cx="708660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1066680"/>
            <a:ext cx="6553080" cy="31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tent standard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view then select appropriate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rgets and C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21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s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century skill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aboration, presentation,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itical thinking in all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5228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cope of a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838080"/>
            <a:ext cx="33526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1523880"/>
            <a:ext cx="1524240" cy="18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143000" y="1066680"/>
            <a:ext cx="7545240" cy="5193000"/>
            <a:chOff x="1143000" y="1066680"/>
            <a:chExt cx="7545240" cy="5193000"/>
          </a:xfrm>
        </p:grpSpPr>
        <p:sp>
          <p:nvSpPr>
            <p:cNvPr id="215" name=""/>
            <p:cNvSpPr/>
            <p:nvPr/>
          </p:nvSpPr>
          <p:spPr>
            <a:xfrm>
              <a:off x="1143000" y="1066680"/>
              <a:ext cx="2514600" cy="58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57600" y="1066680"/>
              <a:ext cx="2514600" cy="581040"/>
            </a:xfrm>
            <a:prstGeom prst="rect">
              <a:avLst/>
            </a:prstGeom>
            <a:solidFill>
              <a:srgbClr val="d6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imi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72200" y="1066680"/>
              <a:ext cx="2514600" cy="581040"/>
            </a:xfrm>
            <a:prstGeom prst="rect">
              <a:avLst/>
            </a:prstGeom>
            <a:solidFill>
              <a:srgbClr val="d6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mbiti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43000" y="1647720"/>
              <a:ext cx="2514600" cy="579600"/>
            </a:xfrm>
            <a:prstGeom prst="rect">
              <a:avLst/>
            </a:prstGeom>
            <a:solidFill>
              <a:srgbClr val="d6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u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1647720"/>
              <a:ext cx="251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0-15 contact hou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72200" y="1647720"/>
              <a:ext cx="251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40+ contact hou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43000" y="2227320"/>
              <a:ext cx="2514600" cy="639720"/>
            </a:xfrm>
            <a:prstGeom prst="rect">
              <a:avLst/>
            </a:prstGeom>
            <a:solidFill>
              <a:srgbClr val="d6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Bread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57600" y="2227320"/>
              <a:ext cx="25146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ne subject; 1-2 power standar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72200" y="2227320"/>
              <a:ext cx="25146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nterdisciplinary; 3-4 power standar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43000" y="2867040"/>
              <a:ext cx="2514600" cy="581040"/>
            </a:xfrm>
            <a:prstGeom prst="rect">
              <a:avLst/>
            </a:prstGeom>
            <a:solidFill>
              <a:srgbClr val="d6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57600" y="2867040"/>
              <a:ext cx="25146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as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72200" y="2867040"/>
              <a:ext cx="25146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x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43000" y="3448080"/>
              <a:ext cx="2514600" cy="581040"/>
            </a:xfrm>
            <a:prstGeom prst="rect">
              <a:avLst/>
            </a:prstGeom>
            <a:solidFill>
              <a:srgbClr val="d6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et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57600" y="3448080"/>
              <a:ext cx="25146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lassro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72200" y="3448080"/>
              <a:ext cx="25146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mmunity/Wor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43000" y="4029120"/>
              <a:ext cx="2514600" cy="914400"/>
            </a:xfrm>
            <a:prstGeom prst="rect">
              <a:avLst/>
            </a:prstGeom>
            <a:solidFill>
              <a:srgbClr val="d6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ho’s Involv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57600" y="4029120"/>
              <a:ext cx="25146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ne teac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72200" y="4029120"/>
              <a:ext cx="25146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everal teachers, outside experts, commun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43000" y="4943520"/>
              <a:ext cx="2514600" cy="639720"/>
            </a:xfrm>
            <a:prstGeom prst="rect">
              <a:avLst/>
            </a:prstGeom>
            <a:solidFill>
              <a:srgbClr val="d6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ud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57600" y="4943520"/>
              <a:ext cx="25146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lassro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2200" y="4943520"/>
              <a:ext cx="25146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xperts, community, world, we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43000" y="5583240"/>
              <a:ext cx="2514600" cy="674640"/>
            </a:xfrm>
            <a:prstGeom prst="rect">
              <a:avLst/>
            </a:prstGeom>
            <a:solidFill>
              <a:srgbClr val="d6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tudent Autonom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57600" y="5583240"/>
              <a:ext cx="25146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acher-defined; tightly manag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72200" y="5583240"/>
              <a:ext cx="25146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-defined and manag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57600" y="1066680"/>
              <a:ext cx="1440" cy="519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2200" y="1066680"/>
              <a:ext cx="1440" cy="519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43000" y="1647720"/>
              <a:ext cx="7543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43000" y="2227320"/>
              <a:ext cx="7543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43000" y="2867040"/>
              <a:ext cx="7543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43000" y="3448080"/>
              <a:ext cx="7543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43000" y="4029120"/>
              <a:ext cx="7543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43000" y="4943520"/>
              <a:ext cx="7543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43000" y="5583240"/>
              <a:ext cx="7543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43000" y="1066680"/>
              <a:ext cx="1440" cy="519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686800" y="1066680"/>
              <a:ext cx="1440" cy="519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43000" y="1066680"/>
              <a:ext cx="75438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43000" y="6257880"/>
              <a:ext cx="75438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62520" y="6248520"/>
            <a:ext cx="4495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5562720"/>
            <a:ext cx="45720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4952880"/>
            <a:ext cx="44956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4038480"/>
            <a:ext cx="44956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3429000"/>
            <a:ext cx="4495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2895480"/>
            <a:ext cx="44956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2209680"/>
            <a:ext cx="44956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have a Driving Ques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164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stud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s interest and/or the feeling of 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minds them “Why we’re doing this toda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uides project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990720"/>
            <a:ext cx="480060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934320" y="30492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09480" y="13716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teach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uides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ptures &amp; communicates the purpose of the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iates and focuses inqui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3808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A Driving Question i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1263600"/>
            <a:ext cx="7238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ocative or challe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n-ended; multiple possible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derstandable to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swerable (but not in a simple way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ked to important content in the discip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629400" y="4572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838080"/>
            <a:ext cx="373392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 fill="hold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28600" y="3808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A Driving Question can b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1131840"/>
            <a:ext cx="838188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bstract, Conceptu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Answered by conceptual analysis and logical argu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makes someone a hero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More Concr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nswered mainly by the analysis of empirical evidenc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Choctaw Indians, how do we reveal our culture through our food,                     shelter, recreation, music, stories, traditions, and customs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roblem-Solv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nswered by offering a reasonable solution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w can I create a weekly plan to improve and monitor my physical                      fitness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Design Challen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nswered by creating – and often executing – a design that effectively meets requirement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w can I use information gathered from artifacts, diaries, and time-lines to             write and perform a play about a person who lived in my community long               ago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838080"/>
            <a:ext cx="510552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 fill="hold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28600" y="38088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Refining a 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838080"/>
            <a:ext cx="28954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114300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2112"/>
              </a:spcBef>
              <a:spcAft>
                <a:spcPts val="1063"/>
              </a:spcAft>
              <a:tabLst>
                <a:tab algn="l" pos="0"/>
                <a:tab algn="l" pos="4572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From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Where are patterns in architectu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o Localized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What patterns can be found in the architecture in our                            communit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o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ctivated (design challenge)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How can we create a photography exhibit that teaches students          about the patterns found in architecture and in our communit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629400" y="304920"/>
            <a:ext cx="2038320" cy="1400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600200" y="1447920"/>
            <a:ext cx="6095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From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Why is civic engagement importan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o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Who are the civic leaders in our communit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o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Local and Activated (design challenge)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How can we plan and host a special event to thank the people who are doing service to improve our communit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3808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Refining a 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838080"/>
            <a:ext cx="274320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629400" y="304920"/>
            <a:ext cx="2038320" cy="1400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1305000"/>
            <a:ext cx="73152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rom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w can I use artifacts, diaries, and time-lines to interpret the pas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cal and Activated (design challenge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w can I use information gathered from artifacts, diaries, and time-lines to write and perform a play about a person who lived in my community long ago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3808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Refining a 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838080"/>
            <a:ext cx="274320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6705720" y="380880"/>
            <a:ext cx="2038320" cy="1400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rom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y is physical activity good for our bodi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tivated (Problem-solving)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w can I create a weekly plan to promote and monitor my physical fitn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3808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Refining a 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838080"/>
            <a:ext cx="274320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962000" cy="1347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248520" y="285840"/>
            <a:ext cx="2733480" cy="215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380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Workshop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838080"/>
            <a:ext cx="350532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1919160"/>
            <a:ext cx="701028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 an understanding of best practices in pro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, assessment and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lore online resources for PB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actice using tools and processes for project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the first draft of a project for classroom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ticipate in a peer review protocol for pro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28600" y="38088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762120"/>
            <a:ext cx="205740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76520" y="152244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mple Vid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81080" y="2527200"/>
            <a:ext cx="69343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Peoples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7010280" y="380880"/>
            <a:ext cx="1428840" cy="1143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28600" y="38088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Your 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762120"/>
            <a:ext cx="205740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76520" y="1306440"/>
            <a:ext cx="72388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ing in table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no more than 3-5 per group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the handout to select, refine or create a Driving Qu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2743200"/>
            <a:ext cx="1523880" cy="380880"/>
          </a:xfrm>
          <a:prstGeom prst="rect">
            <a:avLst/>
          </a:prstGeom>
          <a:solidFill>
            <a:srgbClr val="ced0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7576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erlin Sans FB"/>
              </a:rPr>
              <a:t>Report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81080" y="2527200"/>
            <a:ext cx="693432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our group’s ideas/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7010280" y="380880"/>
            <a:ext cx="1428840" cy="1143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28600" y="3808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A protocol for refining a 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838080"/>
            <a:ext cx="54100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685800" y="1447920"/>
            <a:ext cx="8155080" cy="3201840"/>
            <a:chOff x="685800" y="1447920"/>
            <a:chExt cx="8155080" cy="3201840"/>
          </a:xfrm>
        </p:grpSpPr>
        <p:sp>
          <p:nvSpPr>
            <p:cNvPr id="302" name=""/>
            <p:cNvSpPr/>
            <p:nvPr/>
          </p:nvSpPr>
          <p:spPr>
            <a:xfrm>
              <a:off x="685800" y="1447920"/>
              <a:ext cx="81532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n my students read and comprehend the Driving Question?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" y="1911240"/>
              <a:ext cx="815328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the Driving Question open-ended and does it require a complex answer, or is there one “right answer” or a simple “yes” or “no”?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5800" y="2716200"/>
              <a:ext cx="81532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 answer the Driving Question, will my students need to learn important content knowledge and use 2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century skill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5800" y="3525840"/>
              <a:ext cx="815328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Does the Driving Question allow me to create a local context for the topic(s) under study or have students solve an authentic / real problem?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tional, but recommended if possibl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5800" y="1911240"/>
              <a:ext cx="8153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5800" y="2716200"/>
              <a:ext cx="8153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5800" y="3525840"/>
              <a:ext cx="8153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5800" y="1447920"/>
              <a:ext cx="1440" cy="320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839080" y="1447920"/>
              <a:ext cx="1800" cy="320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5800" y="1447920"/>
              <a:ext cx="8153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5800" y="4648320"/>
              <a:ext cx="8153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-5181480" y="1143000"/>
            <a:ext cx="3809880" cy="15843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248520" y="5181480"/>
            <a:ext cx="1181160" cy="8287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562720" y="5334120"/>
            <a:ext cx="647640" cy="5810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841200" y="54100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fo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5"/>
          <a:stretch/>
        </p:blipFill>
        <p:spPr>
          <a:xfrm>
            <a:off x="7162920" y="228600"/>
            <a:ext cx="1657080" cy="1138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1828800" y="7621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52280" y="30492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Planning &amp; Preparing for a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762120"/>
            <a:ext cx="556272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29718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nning &amp; Prep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91120" y="52578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33720" y="35053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flect &amp; Per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62520" y="137160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tting Sta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81480" y="3657600"/>
            <a:ext cx="3733920" cy="2286000"/>
          </a:xfrm>
          <a:prstGeom prst="foldedCorner">
            <a:avLst>
              <a:gd name="adj" fmla="val 12500"/>
            </a:avLst>
          </a:prstGeom>
          <a:solidFill>
            <a:srgbClr val="b9d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try 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lminating products/rub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aching &amp; learning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mative assess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ent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ject calendar/check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range/create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286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Sample entry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838080"/>
            <a:ext cx="365760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295280" y="1981080"/>
            <a:ext cx="866880" cy="7146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057400" y="2209680"/>
            <a:ext cx="61722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sk: Act like an elementary student and respond to prompts from your teacher after reading the “Entry Document” that is the entry event for a sample pro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6629400" y="380880"/>
            <a:ext cx="1809720" cy="1447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aging students/beginning inquir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eld exper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uest spe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m, video, web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vely discu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ulation or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990720"/>
            <a:ext cx="579132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6095880" y="533520"/>
            <a:ext cx="2876760" cy="22842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352680" y="1676520"/>
            <a:ext cx="3353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ocative re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tling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zzling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ece of real or mock correspo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ng, poem, 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lminating Products and Presentations: Ti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x of individual and group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ke products as authentic as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audience ups the stakes = higher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ire students to share presentation du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ive audience members a 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990720"/>
            <a:ext cx="708660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7315200" y="10666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lminating Products and Presentations: Ti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oid death-by-repetitive-present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2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ied answers to DQ or solutions to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erentiate point of view / ro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e DQ but use varied texts, places, times, people, cultur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oice of products / ways to present answer to D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990720"/>
            <a:ext cx="739152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7315200" y="12193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up Work in PBL: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acher chooses group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2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terogeneous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2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ate a set of expectations for group work (e.g., collaboration rubric)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ssess/grade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2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oup contr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2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ach students project management skills: dividing tasks, managing time, setting dead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2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gular check-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990720"/>
            <a:ext cx="396252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7086600" y="990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28600" y="38088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Project planni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762120"/>
            <a:ext cx="426708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523880" y="1219320"/>
            <a:ext cx="7010640" cy="43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itle 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80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Your ideal grad – begin with the end in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0" y="837720"/>
            <a:ext cx="67816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505320" y="990720"/>
            <a:ext cx="2935080" cy="52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28600" y="38088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Project planni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762120"/>
            <a:ext cx="426708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1295280" y="1143000"/>
            <a:ext cx="733104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52280" y="380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Web-based PB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838080"/>
            <a:ext cx="411480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95280" y="1447920"/>
            <a:ext cx="6629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-To” Si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bi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pbl-onlin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ollaboratory.nunet.net/cwebdocs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www.imsa.ed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H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www.glef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projectapproach.com  (K-8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8"/>
          <a:stretch/>
        </p:blipFill>
        <p:spPr>
          <a:xfrm>
            <a:off x="6553080" y="228600"/>
            <a:ext cx="2373480" cy="1781280"/>
          </a:xfrm>
          <a:prstGeom prst="rect">
            <a:avLst/>
          </a:prstGeom>
          <a:ln w="9360">
            <a:solidFill>
              <a:srgbClr val="8a1522"/>
            </a:solidFill>
            <a:miter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28600" y="457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Web-based PB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838080"/>
            <a:ext cx="42670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71600" y="1143000"/>
            <a:ext cx="678168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ine project librar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vde.state.wv.us/teach21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af18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projects.hightechhigh.org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af18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www.pbl-online.org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af18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pathways.ohiorc.org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af18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http://www.envisionprojects.org/cs/envision/print/docs/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af18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http://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www.wested.org/pblnet/exemplary_project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af18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http://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virtualschoolhouse.visionlink.org/projects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6"/>
          <a:stretch/>
        </p:blipFill>
        <p:spPr>
          <a:xfrm>
            <a:off x="6553080" y="228600"/>
            <a:ext cx="2373480" cy="1781280"/>
          </a:xfrm>
          <a:prstGeom prst="rect">
            <a:avLst/>
          </a:prstGeom>
          <a:ln w="9360">
            <a:solidFill>
              <a:srgbClr val="8a1522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286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838080"/>
            <a:ext cx="22096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2233440" cy="2962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57200" y="1143000"/>
            <a:ext cx="640080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ntent and Skills Standards Add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your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roject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de on the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tnership for 21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nd refine your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riving Ques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to develop your culminating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nd idea for your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ntry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380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Everybody is saying the same 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2120"/>
            <a:ext cx="632448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05720" y="4648320"/>
            <a:ext cx="1009440" cy="1019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010280" y="6094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981080" y="4419720"/>
            <a:ext cx="1524240" cy="1325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533520" y="3429000"/>
            <a:ext cx="819000" cy="1238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5867280" y="2590920"/>
            <a:ext cx="809640" cy="1228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3276720" y="3352680"/>
            <a:ext cx="1238040" cy="657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1066680" y="1447920"/>
            <a:ext cx="819360" cy="618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3276720" y="1295280"/>
            <a:ext cx="1323720" cy="13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5335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And re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0" y="989640"/>
            <a:ext cx="297180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143000"/>
            <a:ext cx="693432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entury skills need to be develop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building students’ content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stay engaged in school, students need to c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out learning – by being given meaningful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ionships count – more personalized teach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ould lead to more rigorou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943600" y="304920"/>
            <a:ext cx="2895480" cy="2171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477120" y="5029200"/>
            <a:ext cx="2361960" cy="990720"/>
          </a:xfrm>
          <a:prstGeom prst="horizontalScroll">
            <a:avLst>
              <a:gd name="adj" fmla="val 1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3808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Getting from here to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0" y="837720"/>
            <a:ext cx="44956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76440" y="1285920"/>
            <a:ext cx="1000080" cy="390600"/>
            <a:chOff x="676440" y="1285920"/>
            <a:chExt cx="1000080" cy="390600"/>
          </a:xfrm>
        </p:grpSpPr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676440" y="1285920"/>
              <a:ext cx="10000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685800" y="1295280"/>
              <a:ext cx="97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706920" y="1042920"/>
            <a:ext cx="1189080" cy="414360"/>
            <a:chOff x="3706920" y="1042920"/>
            <a:chExt cx="1189080" cy="414360"/>
          </a:xfrm>
        </p:grpSpPr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3706920" y="1042920"/>
              <a:ext cx="118908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3733920" y="10666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7010280" y="1359000"/>
            <a:ext cx="1006560" cy="396720"/>
            <a:chOff x="7010280" y="1359000"/>
            <a:chExt cx="1006560" cy="396720"/>
          </a:xfrm>
        </p:grpSpPr>
        <p:pic>
          <p:nvPicPr>
            <p:cNvPr id="89" name="" descr=""/>
            <p:cNvPicPr/>
            <p:nvPr/>
          </p:nvPicPr>
          <p:blipFill>
            <a:blip r:embed="rId4"/>
            <a:stretch/>
          </p:blipFill>
          <p:spPr>
            <a:xfrm>
              <a:off x="7010280" y="1359000"/>
              <a:ext cx="10065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7021440" y="1371600"/>
              <a:ext cx="97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533520" y="2286000"/>
            <a:ext cx="1371600" cy="2475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629400" y="5105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entury 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629400" y="2209680"/>
            <a:ext cx="2058840" cy="289584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2057400" y="1905120"/>
            <a:ext cx="4191120" cy="3803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380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Activity-based teaching vs. P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838080"/>
            <a:ext cx="571500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09480" y="1219320"/>
            <a:ext cx="8155080" cy="3670200"/>
            <a:chOff x="609480" y="1219320"/>
            <a:chExt cx="8155080" cy="3670200"/>
          </a:xfrm>
        </p:grpSpPr>
        <p:sp>
          <p:nvSpPr>
            <p:cNvPr id="98" name=""/>
            <p:cNvSpPr/>
            <p:nvPr/>
          </p:nvSpPr>
          <p:spPr>
            <a:xfrm>
              <a:off x="609480" y="1219320"/>
              <a:ext cx="4118040" cy="395280"/>
            </a:xfrm>
            <a:prstGeom prst="rect">
              <a:avLst/>
            </a:prstGeom>
            <a:solidFill>
              <a:srgbClr val="ced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tivity-based teach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27520" y="1219320"/>
              <a:ext cx="4035600" cy="395280"/>
            </a:xfrm>
            <a:prstGeom prst="rect">
              <a:avLst/>
            </a:prstGeom>
            <a:solidFill>
              <a:srgbClr val="ced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9480" y="1614600"/>
              <a:ext cx="41180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joyable; active, hands-on lear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27520" y="1614600"/>
              <a:ext cx="40356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gaging (emotionall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tellectually); “heads-on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80" y="2314440"/>
              <a:ext cx="411804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ocused on theme, concept, time period, novel, topic, culture, textbook chap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27520" y="2314440"/>
              <a:ext cx="403560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riving question, problem or challe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9480" y="3319560"/>
              <a:ext cx="41180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 do projects” = curricular add-on  (“dessert”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27520" y="3319560"/>
              <a:ext cx="40356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ject organizes curriculum &amp; instruction (“main course”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9480" y="4019400"/>
              <a:ext cx="4118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ssessment = 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27520" y="4019400"/>
              <a:ext cx="40356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duc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4414680"/>
              <a:ext cx="411804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chool wor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27520" y="4414680"/>
              <a:ext cx="40356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al wor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27520" y="1219320"/>
              <a:ext cx="1800" cy="366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480" y="1614600"/>
              <a:ext cx="8153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2314440"/>
              <a:ext cx="8153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480" y="3319560"/>
              <a:ext cx="8153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9480" y="4019400"/>
              <a:ext cx="8153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9480" y="4414680"/>
              <a:ext cx="8153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1219320"/>
              <a:ext cx="1800" cy="366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763120" y="1219320"/>
              <a:ext cx="1440" cy="366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9480" y="1219320"/>
              <a:ext cx="8153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9480" y="4888080"/>
              <a:ext cx="8153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5562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ity-based teaching vs. P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838080"/>
            <a:ext cx="487692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616040"/>
            <a:ext cx="7391160" cy="40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it PB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orm scenes from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acbe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make collage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mbols that represent major charac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sten to different sounds. Make a graph. Identif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atures of common sounds that are disturbing to the 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 a research report on a Renaissance artist, bui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del of a device from a da Vinci drawing, and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a TV news video about a major event of the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y various card and dice games to determine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bability of win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361960" cy="2027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ka Bauer</dc:creator>
  <dc:description/>
  <dc:language>en-US</dc:language>
  <cp:lastModifiedBy>David Ross</cp:lastModifiedBy>
  <cp:revision>0</cp:revision>
  <dc:subject/>
  <dc:title>PowerPoint Presentation  -  Title Here</dc:title>
</cp:coreProperties>
</file>